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1E309-EDA3-4408-9D95-814C68E3E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98D8-45BE-4F53-92E6-B5114381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B3BAB-0A18-4FDA-8891-A8301754C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3F366-E920-4CD0-9DC5-02D0C3907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DC699-9F0B-4FEE-B707-4687934FA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90BA5-DFF5-4980-B3A4-E9DF3E78A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EF57F-5DB8-483B-A698-30DDB3AFE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FAAB1-3B73-4B85-852F-4B44C1463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B9D83-936C-4D19-B5BC-2509F8C55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22F3A-6731-491A-90E8-4AC3CBA6E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3A6C4-75FE-4C51-B10E-0E80A751B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C3DA-EBC1-4791-AEA3-1E480A60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69F2B-AA2E-42DB-A25A-1B68579D4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9D72-C07B-45CD-9F77-353AC4317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C4648-087C-4C7E-AC72-A595B8F32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48251-B6AF-454C-A2FA-D76C07527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7B2E-D2F6-409A-9038-27A0812C1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07C6-1D5E-42B2-B8F9-8FF622DC6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7BC47-BD0D-4170-BF49-54F903FA1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8581D-D4D6-454A-AAD4-964EE3E5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8691F-451C-4D15-A38A-55C11039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DD9A-F90E-4B3E-B840-FEA9E262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6F4AE-6C85-4B84-A832-95B55699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2951-CC7E-4C1F-A41F-39624F262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A2FE-1D0F-4452-8ECD-6F5CE6818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3E00-FFE8-4A50-9550-881C220F5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90720" y="0"/>
            <a:ext cx="7467480" cy="7467480"/>
          </a:xfrm>
          <a:prstGeom prst="rect">
            <a:avLst/>
          </a:prstGeom>
          <a:ln w="0">
            <a:noFill/>
          </a:ln>
        </p:spPr>
      </p:pic>
      <p:sp>
        <p:nvSpPr>
          <p:cNvPr id="83" name="PlaceHolder 1"/>
          <p:cNvSpPr>
            <a:spLocks noGrp="1"/>
          </p:cNvSpPr>
          <p:nvPr>
            <p:ph type="title"/>
          </p:nvPr>
        </p:nvSpPr>
        <p:spPr>
          <a:xfrm>
            <a:off x="685800" y="175212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 ~ NASA </a:t>
            </a:r>
            <a:br>
              <a:rPr sz="4000"/>
            </a:br>
            <a:r>
              <a:rPr b="1" lang="en-US" sz="4000" spc="-1" strike="noStrike">
                <a:solidFill>
                  <a:srgbClr val="ffffcc"/>
                </a:solidFill>
                <a:latin typeface="Elephant"/>
              </a:rPr>
              <a:t>Endeavour Program</a:t>
            </a:r>
            <a:br>
              <a:rPr sz="4000"/>
            </a:br>
            <a:r>
              <a:rPr b="1" lang="en-US" sz="4000" spc="-1" strike="noStrike">
                <a:solidFill>
                  <a:srgbClr val="ffffcc"/>
                </a:solidFill>
                <a:latin typeface="Elephant"/>
              </a:rPr>
              <a:t>2009 ~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ggy Maher, 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685800" y="4568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lum bright="-20000"/>
          </a:blip>
          <a:stretch/>
        </p:blipFill>
        <p:spPr>
          <a:xfrm>
            <a:off x="2514600" y="228600"/>
            <a:ext cx="4259160" cy="6491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88"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1"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4"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7"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0"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3"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Endeavour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out this school year, you will work as a team to explo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ientific phenomenon</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SA Missions that explore the univers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a outreach product to educate others about NASA and the work that they do to advance our understanding of the un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sweiland</cp:lastModifiedBy>
  <dcterms:modified xsi:type="dcterms:W3CDTF">2009-10-19T09:40:06Z</dcterms:modified>
  <cp:revision>12</cp:revision>
  <dc:subject/>
  <dc:title>Slide 1</dc:title>
</cp:coreProperties>
</file>